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A2C-4BF8-4DB6-A1DE-63D8D609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E4-EF87-4DA4-AF78-5834D03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3FC-F707-45FD-951D-6F0004F6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0BD-6229-4153-BEB4-A7A9D941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CA2-2366-493F-AD77-B36FA23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331-A037-47B8-AA8D-3256A8D5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12F-43C1-45FD-8286-0D356FC2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94C-818D-4EE3-8DAD-9B1021D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870-1C94-4B41-9ADF-C958D6B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FE6-3D89-44BA-9DC7-3401469D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19D-217D-4B5A-A6F0-4CD3D54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A6F-AA4E-4492-A18F-B9BEF4F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333F-82DB-484A-BA41-33A1B5A5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304920"/>
            <a:ext cx="4648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DJECTIV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124080" y="2590920"/>
            <a:ext cx="1143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&amp;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9880" y="4343400"/>
            <a:ext cx="426744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DVERB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263600" y="609480"/>
            <a:ext cx="61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WHAT IS AN AD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152388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Comic Sans MS"/>
              </a:rPr>
              <a:t>An adjective is a word that describes/modifies a noun or pro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62560" y="23274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mic Sans M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67160" y="2819520"/>
            <a:ext cx="25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bi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70440" y="4008600"/>
            <a:ext cx="43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cute, hugg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06560" y="492300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tall, gre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068120" y="571500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huge, shar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50"/>
                            </p:stCondLst>
                            <p:childTnLst>
                              <p:par>
                                <p:cTn id="3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75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25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25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250"/>
                            </p:stCondLst>
                            <p:childTnLst>
                              <p:par>
                                <p:cTn id="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25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350"/>
                            </p:stCondLst>
                            <p:childTnLst>
                              <p:par>
                                <p:cTn id="6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35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35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935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350"/>
                            </p:stCondLst>
                            <p:childTnLst>
                              <p:par>
                                <p:cTn id="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35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850"/>
                            </p:stCondLst>
                            <p:childTnLst>
                              <p:par>
                                <p:cTn id="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748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198440" y="530280"/>
            <a:ext cx="39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WHAT IS AN ADVER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60720" y="1569960"/>
            <a:ext cx="52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33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Adverbs describe/modify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095120" y="2684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037160" y="3475080"/>
            <a:ext cx="58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was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quietl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ing out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244160" y="4237200"/>
            <a:ext cx="52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endale was torn down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slow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0800" y="5075280"/>
            <a:ext cx="32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ny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ke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535040" y="5684760"/>
            <a:ext cx="33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atie jumped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high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40"/>
                            </p:stCondLst>
                            <p:childTnLst>
                              <p:par>
                                <p:cTn id="1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4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4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64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64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64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JUST EXACTLY WHAT DOES AN ADJECTIVE AND ADVERB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An adverb tells us when,where,and how about verbs, adjectives and even other ad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An adjective describes a noun or pronoun by telling which one, what kind or 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2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72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Examples of adjectives and the nouns/pronouns they modif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62120" y="2133720"/>
            <a:ext cx="64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wore a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yellow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weat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the picn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733920" y="19051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3048120" y="1904760"/>
            <a:ext cx="609480" cy="2286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61760" y="370368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bedroom was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me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un       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H="1">
            <a:off x="2057400" y="335268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600" y="5151600"/>
            <a:ext cx="53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lost her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bl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whi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ar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33cc33"/>
                </a:solidFill>
                <a:latin typeface="Comic Sans MS"/>
              </a:rPr>
              <a:t>adjectiv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no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 flipH="1" flipV="1">
            <a:off x="3048120" y="33526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 flipV="1">
            <a:off x="3048120" y="472428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8"/>
          <p:cNvSpPr/>
          <p:nvPr/>
        </p:nvSpPr>
        <p:spPr>
          <a:xfrm flipV="1">
            <a:off x="441972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9"/>
          <p:cNvSpPr/>
          <p:nvPr/>
        </p:nvSpPr>
        <p:spPr>
          <a:xfrm>
            <a:off x="4419720" y="472428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143120" y="189396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llow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swe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955760" y="3494160"/>
            <a:ext cx="17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ssy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bedro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225840" y="5018040"/>
            <a:ext cx="25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lue and white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color of the par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858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36200" y="37800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xamples of adverbs and what they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84520" y="134136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avid was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extremely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grum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200400" y="1066320"/>
            <a:ext cx="1143000" cy="3049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4343400" y="1066680"/>
            <a:ext cx="228600" cy="3812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839560" y="123660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Extremely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w grumpy David wa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104840" y="25909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he runner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easily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finish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3124080" y="2209680"/>
            <a:ext cx="1143000" cy="4572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4267080" y="22096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085080" y="2514600"/>
            <a:ext cx="284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Easily describes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the runner finish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the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28600" y="4038480"/>
            <a:ext cx="63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Jose, my oldest brother, drove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slowly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by his girlfriend’s h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 flipH="1" flipV="1">
            <a:off x="4800600" y="3809520"/>
            <a:ext cx="838080" cy="3812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 flipH="1">
            <a:off x="4495320" y="3809880"/>
            <a:ext cx="304920" cy="304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434280" y="4132440"/>
            <a:ext cx="22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lowly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w the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drove the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j0219117"/>
          <p:cNvPicPr/>
          <p:nvPr/>
        </p:nvPicPr>
        <p:blipFill>
          <a:blip r:embed="rId1"/>
          <a:stretch/>
        </p:blipFill>
        <p:spPr>
          <a:xfrm>
            <a:off x="0" y="2438280"/>
            <a:ext cx="990720" cy="67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j0285315"/>
          <p:cNvPicPr/>
          <p:nvPr/>
        </p:nvPicPr>
        <p:blipFill>
          <a:blip r:embed="rId2"/>
          <a:stretch/>
        </p:blipFill>
        <p:spPr>
          <a:xfrm>
            <a:off x="4114800" y="4572000"/>
            <a:ext cx="1228680" cy="78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MMj02827480000[1]"/>
          <p:cNvPicPr/>
          <p:nvPr/>
        </p:nvPicPr>
        <p:blipFill>
          <a:blip r:embed="rId3"/>
          <a:stretch/>
        </p:blipFill>
        <p:spPr>
          <a:xfrm>
            <a:off x="228600" y="1219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7:09:50Z</dcterms:created>
  <dc:creator>LatD505</dc:creator>
  <dc:description/>
  <dc:language>en-US</dc:language>
  <cp:lastModifiedBy>teacher</cp:lastModifiedBy>
  <dcterms:modified xsi:type="dcterms:W3CDTF">2011-01-19T00:26:32Z</dcterms:modified>
  <cp:revision>20</cp:revision>
  <dc:subject/>
  <dc:title>Slide 1</dc:title>
</cp:coreProperties>
</file>